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9.pct" ContentType="image/x-pict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4DE-114A-4811-8D37-8A951B4B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E453-6506-4280-AB81-E7D2C313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7411-491A-4129-97F0-E5042B81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8EB4-8D18-4B69-9046-4DD32893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B12F-30CB-4645-AD57-0E49EE70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DF8C-416B-4C58-9FA5-1ED0D12E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CBE0-C9B6-45EB-B221-4AF56541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135E-19C0-4E0F-BF43-700A2089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FA0A-9E37-40DC-BC23-7E28DD1A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5526-A1F0-4095-9CC1-C1D07FEF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F6EA-C324-46D4-BE0B-7EA35A5B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F73-7842-4C48-A84B-5F5A6185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3CB8-8B83-499C-B9BA-86959630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0189-4DC3-4BEE-8E54-E0AD59B7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1FC4-6024-4467-96EC-62794E46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31BF-EF27-4F26-81D2-486FFBBA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A6EB-9106-4271-8775-E93DC16D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E4C-F7AE-4255-836D-C1C9870C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BCC4-14A6-4987-8C99-E9AEFFC2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8BBE-4EA0-4C41-9EB0-CE98F9F6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713-D8B3-43D6-A3FE-BEBCA9CC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490-30F1-49AA-80C2-B124B18A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C61-664C-4FD4-BAE1-64DEDB25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94A-1F37-4E1A-99FE-D94950AF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9533-909E-4766-AA2F-FE74C7A4A838}" type="slidenum"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FC09-5D89-4715-AA8A-F0C05AA10384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d2204"/>
                </a:solidFill>
                <a:latin typeface="Arial"/>
              </a:rPr>
              <a:t>Aim:  How did Vladimir Lenin and Joseph Stalin change life in the USSR? </a:t>
            </a:r>
            <a:br>
              <a:rPr sz="3500"/>
            </a:br>
            <a:r>
              <a:rPr b="1" lang="en-US" sz="3500" spc="-1" strike="noStrike">
                <a:solidFill>
                  <a:srgbClr val="5d2204"/>
                </a:solidFill>
                <a:latin typeface="Arial"/>
              </a:rPr>
              <a:t>L26</a:t>
            </a:r>
            <a:endParaRPr b="1" lang="en-US" sz="35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92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Do Now: Create a list or word web about what you know already about Vladimir Lenin and Joseph Stalin.  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212164"/>
                </a:solidFill>
                <a:latin typeface="Arial"/>
              </a:rPr>
              <a:t>6) Propaganda- an advertisement that persuades people to believe biased information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79840" y="324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89200" y="1981080"/>
            <a:ext cx="556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2730600" cy="3886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191120" y="457200"/>
            <a:ext cx="4419360" cy="3573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76440" y="4114800"/>
            <a:ext cx="2027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Restoration of the governmen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NEP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Communism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3733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Vladimir Lenin 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12164"/>
                </a:solidFill>
                <a:latin typeface="Arial"/>
              </a:rPr>
              <a:t>S</a:t>
            </a:r>
            <a:r>
              <a:rPr b="0" lang="en-US" sz="2700" spc="-1" strike="noStrike">
                <a:solidFill>
                  <a:srgbClr val="212164"/>
                </a:solidFill>
                <a:latin typeface="Arial"/>
              </a:rPr>
              <a:t>logan</a:t>
            </a:r>
            <a:endParaRPr b="0" lang="en-US" sz="27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12164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212164"/>
                </a:solidFill>
                <a:latin typeface="Arial"/>
              </a:rPr>
              <a:t>Peace, Land and Bread” </a:t>
            </a:r>
            <a:endParaRPr b="0" lang="en-US" sz="27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12164"/>
                </a:solidFill>
                <a:latin typeface="Arial"/>
              </a:rPr>
              <a:t>Slogan appealed to the biggest group----The peasants/ workers</a:t>
            </a:r>
            <a:endParaRPr b="0" lang="en-US" sz="27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62520" y="228600"/>
            <a:ext cx="2133360" cy="1563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191120" y="2133720"/>
            <a:ext cx="4572000" cy="40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99542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Lenin used two new methods to reorganize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719f6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NEP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9954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Small scale version of capitalism (think of it as a baby step to full Communism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719f6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Communism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9954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Based on Karl Marx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9954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Economic equality for al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1604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00600" y="53316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Lenin did not live to see how much Communism restored Russia (USSR).  He died in 1924 as a result of multiple stroke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8006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48320" y="533520"/>
            <a:ext cx="3657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ruggle for power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fter Lenin’s death there was a brief struggle for power between Joseph Stalin and Leon Trotsky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rotsky was the former leader of the Red Army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talin was a powerful member of the Communist party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038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12164"/>
                </a:solidFill>
                <a:latin typeface="Arial"/>
              </a:rPr>
              <a:t>Stalin is victorious and creates a Totalitarian state in the USSR</a:t>
            </a:r>
            <a:endParaRPr b="1" lang="en-US" sz="39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otalitarian= gov’t controls all aspects of public and private life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3067200" cy="3124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76920" y="2971800"/>
            <a:ext cx="2635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hanges under Stalin 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mmand Economy—government control of all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conomic decisions </a:t>
            </a:r>
            <a:endParaRPr b="0" lang="en-US" sz="3300" spc="-1" strike="noStrike">
              <a:solidFill>
                <a:srgbClr val="21216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ve Year Plans—set goals to increase industrial production </a:t>
            </a:r>
            <a:endParaRPr b="0" lang="en-US" sz="3300" spc="-1" strike="noStrike">
              <a:solidFill>
                <a:srgbClr val="21216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llective Farms—took over private farms and created gov.  run farms.  Peasants resisted but were forced by Stalin and his police.</a:t>
            </a:r>
            <a:endParaRPr b="0" lang="en-US" sz="33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ethods of Control 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21216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olice Terro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nitored phone, read mail, and planted informers.  </a:t>
            </a:r>
            <a:endParaRPr b="0" lang="en-US" sz="4000" spc="-1" strike="noStrike">
              <a:solidFill>
                <a:srgbClr val="212164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21216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Great Pur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34 was a campaign of terror 8-13 million were executed for “crimes against the Soviet state.”</a:t>
            </a:r>
            <a:endParaRPr b="0" lang="en-US" sz="4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040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ethods of Control 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Indoctrination---instruction in the governments beliefs used to mold peoples minds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 Censorship—music, movies, radio, newspapers were all controlled by the gov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gious persecution---wanted to replace religion with teachings of communism.  Destroyed churches and killed priest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5:44:59Z</dcterms:created>
  <dc:creator>NYCDOE</dc:creator>
  <dc:description/>
  <dc:language>en-US</dc:language>
  <cp:lastModifiedBy>NYCDOE</cp:lastModifiedBy>
  <dcterms:modified xsi:type="dcterms:W3CDTF">2012-01-04T14:17:30Z</dcterms:modified>
  <cp:revision>9</cp:revision>
  <dc:subject/>
  <dc:title>Aim:  What was life like in a totalitarian state?  L60</dc:title>
</cp:coreProperties>
</file>